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770E-58DF-4AA5-8383-D8EB5ADD60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1E9C-3B8F-4420-8A82-12BF56B180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64F-ABB1-4D74-B00E-2FA33314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89E-4131-47FA-8A07-174A6DE3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178-3F02-419A-8FFE-491724FA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957-4027-410C-891F-05837942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9FD9-691F-4C1E-A92C-8D03F739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DACA-FA58-421C-A89C-F1EBEE9A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036F-171B-4FC6-A50A-1926B91B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25AC-6997-4666-85A4-DE610250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E06F-C1B3-4CBB-9423-605A0DF2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CF20-7F1D-484B-BF3F-4BC7FDA6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B322-97E9-4506-8563-EF06DEC0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390-DB3C-4EAF-A0EE-5BD6C411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3D98-82DF-4507-B3A5-44F227DF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B25F-1CD2-4AA8-8C8A-684832E3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4122-54CF-446F-9C74-5713984B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C89F-C22F-4537-BCB6-F50BFA87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3BA9-6397-4FF7-903D-7EE53F0B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97365-1903-4233-8AB4-49D2F74D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69908-EE0E-4353-BC2F-6DC879D0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67005-CF2C-4227-B7D5-781A3C8D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18F76-7DAD-465E-A94F-2B7447F4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B2326-19B3-49E9-8528-5190A565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3B7-3DDA-48AA-866C-1661156C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F744A-1999-4033-9F79-723B72EC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7868C-502B-40E7-96B8-1A8D2F1A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81E89-E00A-4B96-B098-1681BDA5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F2FE-02C5-4A9E-AE9F-87E04BC4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95B4A-3C04-4E23-813B-6794AD87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048B7-3A45-4DBF-A7F1-5C2EC790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C2AB3-E99C-42FD-B753-4DC2AE9A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25EA2-DDF7-44DF-A6FD-150CE6D8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FF3B5-BA70-46F2-B088-FD252E87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347FC-2768-4CCE-9163-E6B7EE5C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D3A-1D6D-4C56-A160-2CDC48D1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017B8-FFB3-47A1-9F18-93B2821B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B7B89-BE36-4A9E-A2FB-4BAC08E2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65CBC-6AA1-4721-9F29-40CECC9E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33750-15C0-4DCA-A903-1013E351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7610C-DF53-460C-AC09-CD176DA5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8509C-7232-442B-82D7-D4E6256B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1EF02-5AEE-45A9-AA14-3985E2DC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74C0C-F577-4E50-A203-345F2136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9DAFC-942C-442F-ADA0-D46BBC80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A417E-C60D-41C6-BF92-A18638F9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D70-08B8-4C29-BE0B-5565E59B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2E5BB-711F-42C0-B2C3-A5B861A8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37A9C-45A9-42F3-8C0D-70086638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67260-74EF-4111-97CB-B40F7F7D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15593-D5A5-4389-ABC7-FF858A5D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A8221-72A9-4D92-9BD2-8043F93B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4A657-967B-47FF-B26E-52610267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78010-4BBA-41B9-8CED-1CD59CD6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0E012-23FE-4CD7-A0D6-5A74D06E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22822-5A74-413E-97C4-BF00471B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A9B5F-92AF-4CED-B7BA-CFB5E8AA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7BF-4C88-4579-B92A-DB808807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71571-C92B-464C-ACDC-AF6E01AF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4F3-51EE-4C29-B6FB-AC71F845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F84-6294-47F8-9EBB-B3B7701A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905-0246-444A-8577-E35DB6DB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0264-890F-4BA7-90E1-85CCD67A96C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A931-A1A6-4EFF-9E69-8A8047D6F7A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FA38-47F8-4E80-BAFB-74464E32093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A841-27A3-4EA5-B021-D9FED77CE0B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7D83-38A8-466B-A64C-6BA36FCEBFB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\339820_79_i_094.png"/>
          <p:cNvPicPr/>
          <p:nvPr/>
        </p:nvPicPr>
        <p:blipFill>
          <a:blip r:embed="rId1"/>
          <a:stretch/>
        </p:blipFill>
        <p:spPr>
          <a:xfrm>
            <a:off x="971640" y="1336680"/>
            <a:ext cx="75610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0:01Z</dcterms:modified>
  <cp:revision>37</cp:revision>
  <dc:subject/>
  <dc:title>ТВОРЧЕСКАЯ ДЕЯТЕЛЬНОСТЬ: ЗНАКОМСТВО С ТЕХНИКОЙ ИЗОНИТЬ</dc:title>
</cp:coreProperties>
</file>